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ED82-7CC8-4D21-9339-FDDBA482A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4760" y="387540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4FA4-0A6A-4851-A949-E12CEB3B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579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6C28-5AF5-496C-A134-E3BE26226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4908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340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476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4908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340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D337-0CCE-4A15-8B35-6A52AEE6C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F553-F17D-4600-ABCD-E3A0E5C82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5A97-F0FE-4D9A-A4DB-34B73191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00CE-A8B3-4B53-BE7C-EB37A63B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0BE9-EB4F-48A8-B44A-A6016E59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01C7-F50B-45A7-A9E9-0B753A41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04760" y="228240"/>
            <a:ext cx="6933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0B29-4B76-4870-BD24-4FB9DC87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902B-4A28-4539-911A-8D39B33C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BF6E-53CC-403F-AFDF-FBC6919A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579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36D1-CBA6-49FA-9E87-C8B498C4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75A8-944F-48B7-9F43-F1119610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4760" y="387540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9CE7-8D68-4DA5-BAA9-B8E6B213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579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EA12-C216-4533-B85A-5B44899C4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4908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9340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476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4908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9340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0937-70D6-4437-B0AC-32C02D2A5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55D8-3B5B-42FC-B938-41BD555F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319C-B203-46C6-8CAA-22E02BC7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5FF8-3A9C-412C-BAF7-3068B607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4760" y="228240"/>
            <a:ext cx="6933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4B36-C282-4917-A7B4-5EAD7BC8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1CE3-541C-4BF8-96B7-7E5C452C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579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6808-5B9E-43A8-861E-122E1994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5A8C-B42F-4736-A858-B7F1ACA1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8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A115-CDD1-401C-881F-17083C4DB0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33560" y="2134800"/>
            <a:ext cx="51814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A099-7BBC-45BB-B93E-F9F7D57769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33560" y="2134800"/>
            <a:ext cx="51814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 Black"/>
              </a:rPr>
              <a:t>Permutations &amp; Combinations</a:t>
            </a: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738600" y="4038480"/>
            <a:ext cx="517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abil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Question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05120" y="14475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roup of 4 journalists is to be chosen to cover a murder trial.  There are 5 male and 7 female journalists available.  How many possible groups can be form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sting of 2 men and 2 wom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sting of a least one wom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tion   a)  2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49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Arial Black"/>
              </a:rPr>
              <a:t>Application to Probability</a:t>
            </a:r>
            <a:endParaRPr b="0" lang="en-US" sz="36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(x)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# of favourable outc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 number of outc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cards are picked without replacement from a deck of 52 cards.  What is the probability that both are jack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Solution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(2 jacks) =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2 jacks from 4 j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cards from 52 c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= 6      = 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5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1362     2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388620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37339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7339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The student council forms a sub-committee of 5 council members to look at how funds raised should be spent.  If there are a total of 15 student council members, 6 males and 9 females, what is the probability that the sub-committee will consist of exactly 4 females? At least 4 females?</a:t>
            </a:r>
            <a:endParaRPr b="0" lang="en-US" sz="24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04760" y="3352680"/>
            <a:ext cx="6933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(4 females, 1male)  = (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 = (126)(6)  = 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5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3003      1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(at least 4 females) = P(4 females) + P(5 femal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(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 + (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  =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5                        1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5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80988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37339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20120" y="373392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52578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7120" y="52578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848720" y="51814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Warm-up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distinguishable permutations are there for the letters in your last na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Permutations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rrangement of a set of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 Most bankcards can be used to access an account by entering a 4-digit PIN number.  However knowing these 4 digits is not enough to access the account.  The digits have to be in the correct order.  Since the order is important, we must consider each arrangement as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Combinations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election from a group of objects without regard to or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order were not important then any arrangement of the 4 numbers would access your bank accou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Arial Black"/>
              </a:rPr>
              <a:t>An expression for permutations</a:t>
            </a:r>
            <a:endParaRPr b="0" lang="en-US" sz="36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05120" y="1447560"/>
            <a:ext cx="72388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umber of permutations of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bjects taken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a time reads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permute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276720" y="2971800"/>
                <a:ext cx="327636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e>
                        </m:d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Arial Black"/>
              </a:rPr>
              <a:t>Permutations with repetitions</a:t>
            </a:r>
            <a:endParaRPr b="0" lang="en-US" sz="36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05120" y="1447920"/>
            <a:ext cx="67816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umber of permutations of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bjects, wher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the same of one kind,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the same of another kind, and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the same of yet another kind, can be represented by the express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114800" y="3886200"/>
                <a:ext cx="144792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!</m:t>
                        </m:r>
                        <m:r>
                          <m:t xml:space="preserve">b</m:t>
                        </m:r>
                        <m:r>
                          <m:t xml:space="preserve">!</m:t>
                        </m:r>
                        <m:r>
                          <m:t xml:space="preserve">c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Circular Permutations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general, the number of ways of arranging n objects around a circle i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n-1)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 At a graduation party, guests were seated in groups of 10 at circular tables.  How many permutations are there for each tab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0-1)! = 9! = 36288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Arial Black"/>
              </a:rPr>
              <a:t>An expression for Combinations</a:t>
            </a:r>
            <a:endParaRPr b="0" lang="en-US" sz="36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05120" y="144756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umber of combinations of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tems taken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t a time read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 choose 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429000" y="3352680"/>
                <a:ext cx="312408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!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e>
                        </m:d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Diagonals in a Polygon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05120" y="1447560"/>
            <a:ext cx="6858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diagonals are there in a octag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2 points out of 8 to be joined, then don’t count adjacent pai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10080" y="1981080"/>
            <a:ext cx="1524240" cy="1371600"/>
          </a:xfrm>
          <a:prstGeom prst="octagon">
            <a:avLst>
              <a:gd name="adj" fmla="val 29287"/>
            </a:avLst>
          </a:prstGeom>
          <a:solidFill>
            <a:srgbClr val="586f9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086600" y="4114800"/>
                <a:ext cx="165096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2T20:08:21Z</dcterms:created>
  <dc:creator>nbdoe</dc:creator>
  <dc:description/>
  <cp:keywords/>
  <dc:language>en-US</dc:language>
  <cp:lastModifiedBy>nbdoe</cp:lastModifiedBy>
  <dcterms:modified xsi:type="dcterms:W3CDTF">2007-09-22T23:25:35Z</dcterms:modified>
  <cp:revision>9</cp:revision>
  <dc:subject/>
  <dc:title>Permutations &amp; Combin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61033</vt:lpwstr>
  </property>
</Properties>
</file>